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97A-F7E1-4357-8835-C3734CCA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982-8B48-482F-AFBA-B6FA0599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86170-C27F-4F03-B257-783C4CA7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B9E94-2609-4245-BF27-2EEB1572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B6BC9-F429-41D9-8A8C-0DACE5F9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96DB0-5B58-48F0-B9B0-D0488F9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A6ACB-69D1-44B7-8747-A5A7F11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7BA4F-DBED-4A95-9ED5-1874C05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1C478-2FB6-4894-82E9-05B95884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AA23A-67C2-4F70-B93C-8728EF13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4913C-2470-4C63-B16E-BFDF790A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F51FB-6979-47F9-BA26-1393081F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F9A-567A-4773-9F61-3AE1D51C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5348-3469-4CFD-A09D-833ED539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00AC-6CB4-49EF-8AAC-6424BAB5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2C24E-2862-4F39-A08A-97B8BDE3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D041F-2E1E-4A30-ACF4-472B8BA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9128B-DFAB-4D53-9DE3-91AE023A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1BD42-AD61-460C-96C5-42A584A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43F0E-CE03-4780-9D1A-E124639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3729-5FCA-4E1D-ADEE-E75A8C4E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A6194-E98A-4758-94A4-3AB2C043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00814-A0A9-42BA-8E85-B01F00B0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624-5758-4FB1-9551-1CDC0463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98A0E-9AE1-4E3C-911A-65E945E1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8EFA0-F854-47FE-B9E4-A84C3A79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9AED1-DF97-4C08-B104-84C6872C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A7101-DFA0-4957-A468-0628C3CC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4FDF8-8B62-46A3-8B5C-42D29165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525E8-8536-42D5-8F3E-2D31F326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B6327-AA15-4929-9A44-B2EDD699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AACD6-0307-41C3-BF30-B0E5A3A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C86B5-2158-4BD1-B258-FD62645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83985-5212-4633-97ED-D4FE76C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07B-1F3E-47C3-8108-CD2A95A7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6D85C-434E-4815-BDDF-CE46BD48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C9C92-81D3-411A-B819-5162AA09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4D491-11F6-4305-AB9D-0E91F7A8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C92D1-E03C-4D82-8E42-8170464B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E2469-98F6-42F2-91AA-F101F6D5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1D48D-9B81-4D71-9563-BC16A1D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85B3-22BE-4E16-BC2F-1609319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52505-FF72-4BB3-8730-89776D83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A602C-7525-4321-972D-CD0D203C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E019B-3881-43D3-B449-EEA3A58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5644-AFBC-48B8-A2C6-E8D50125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A4FB1-FF9E-4141-9EBF-8F1358FF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44894-E169-449B-AFF8-7586A0E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80D13-8E0C-4A3E-9868-18D00B94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C7D4B-8EED-476B-B4A2-64AF1A64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5AEF0-368C-44BA-A549-158D27D7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8A37D-C585-4149-BD34-72D1AB92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CA843-DE5D-4D52-AF95-F4257746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E927B-9DBE-4845-9D72-241DF19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9BB7B-72B2-401D-A899-AB844B5F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622E5-5662-420A-B9C0-49826F9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A490-0559-4E3B-88D5-397F18EE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5F339-D787-420D-8306-29607E8A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5F828-A9A5-4935-B820-714276B8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2C77B-A0D7-41DF-92BC-FD95A5B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53814-5A20-4AE3-A2C1-89E2FF4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21271-410D-4405-A7DE-2AFAFEB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E9F7E-799D-447A-A075-4EE5ABA6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83991-3131-4A19-A906-187CB7E2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C8856-A584-48DB-A430-950B9A44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A95CF-A30C-4845-A42C-32511B81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B02D6-576A-431C-8F3E-9CA3996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D62C-9E4B-41DC-843A-555E014C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D375A-D478-4569-A78A-A4E69DAA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36D83-A51C-472C-86B7-CF3515ED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BD441-8568-45D9-A735-8A2F49F0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C0426-FB4B-4C40-8440-633A56A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E8D83-B384-4663-99BC-AAAC612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A8AC1-AABB-410D-85D9-0D8E51F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9BD05-D618-4B17-AAB2-114B129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B419B-3C29-45FE-93BB-91276DF3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9C205-BCB8-4958-8D19-9A8AA92D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4F229-A98C-49F6-A9ED-EA40277B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1EE6-EF96-4363-9F86-9277D615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6BBB0-DC14-45E8-AC35-80CD0973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24349-E59C-43D7-80A8-E897745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01754-01F1-454B-A90C-C47851A9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CFB3F-C212-4F9E-BD23-A55BA4D0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803B3-7B2D-4DFE-8B50-D25918CB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A47F4-1DE9-4682-9D6C-2FE0A29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19314-EA04-4A44-8044-062AE930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9CC6D-9B0B-485A-A403-1DCA924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25C71-301E-4C68-B13F-76644AFC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4EE8E-180E-483C-AA1F-8ABE9C29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B3CA-8AA2-4DB5-A990-102265FA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E8387-1B19-4990-8CE2-019F4B23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BCC5A-4401-4A0D-A0A1-C38287C0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6FEE4-6A32-4338-8A9A-2C71981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E9ED0-4251-48EC-A574-5B2E3BAD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CFDA1-9658-4D53-BB05-BA48467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5C0B6-B0CB-40BC-A8AB-77D0DA5C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7FFD0-99BE-4CF0-B8D1-C2CFE10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5176E-F20B-4F30-8CC3-D753C28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1C456-47AE-452C-91EC-C8CB6F5C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6BF52-1846-455F-BF54-FB22DC19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AEDB-62B9-472A-A40D-2616C57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331AA-01EB-4FF7-B9EE-CDAEC7A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5B997-F5B9-447E-9EE7-ED1E9790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02C35-5572-4C66-B9D3-BA55913B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D0121-14A3-464B-AF90-84481079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EF29E-8EE6-49A7-8383-2D0B3ACA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42140-AA4E-40D1-887C-9FBDCE26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63C11-58ED-4A24-A7B4-3E86F8C5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6ED05-A772-4093-B0D8-B2557F29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133C5-DDDA-4BFF-86CB-F115AE4C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88B8DC-E748-4A5E-9BFF-27087736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E9E-5AE6-4872-896C-2A8F4322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939-E61E-41E2-BCAB-1BC6CD38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781EC-ABBA-446F-8AB7-50B7E91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87414-B595-4125-B281-74AA261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C051D4-6BFE-472B-A4F7-152D0171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85558-9690-45FA-BFD1-1E4439B0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B87E7-7E43-47B7-A3A5-539346B3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092D3-B820-471A-A6B7-4D9FE05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ADA99-0AE0-4843-AFB1-7833FD3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EE321-B263-45EE-A629-F660A03E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D3752-9AC0-4AEE-B1CF-8A4E4BD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8579C-90E3-401E-951A-C22D952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1EC-110E-4301-9F3D-73D777D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3A51D-DBC7-412E-97F7-FD02974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FC0F9-8709-4387-B3CE-D14AB55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92FA3-C560-4CC5-BE5D-795BAF2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A22FD-E177-46CE-968A-47167CB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71CB89-A48B-4D91-BA99-A8884A9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E790E-DBC4-4F32-838E-0E2AFF05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A72471-EF4D-4557-B6B8-ED00656D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2B53A-719F-483B-88E1-8973A37C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662CC-3A8E-4CFF-91EC-49E8F917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280C3-DEFE-4C1F-8ABD-5676E18B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0D7-BC9F-4330-A6E8-12601951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A7F00-65D2-4EF8-97B7-E8D1488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C5B9F-27AD-4A16-8677-AB98A3C9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57E1D-0D59-4F89-B6CD-39322844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B3DDF-DACA-4BCF-8041-AFE579C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0E035-3ECF-42A7-8DE7-2539D63C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25FB2-BC3C-4042-BDAE-8CE812E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F7700-6461-49C2-959B-6F72D63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13B30-19FF-4301-A49B-5721C07F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66325-60CF-4275-B333-1E6EF4FF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5C116-CC5C-4A5B-8B0B-3089DF72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824-156B-4697-9E01-A901FB57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AD791-931F-46D0-846E-696C2CA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E3E89-B5B2-4D0C-985B-52AD33B2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E1F4C-92A2-4F75-8B11-D745F77B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55632A-FC3D-4709-83C7-B3C48FE8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A2997-D9FB-48E6-9C7C-FEDF8283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066D3-CA3C-4AED-8B41-434602C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B737A-CD47-449A-8A87-4AFA476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94D71-6353-4570-8C11-4387467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6C789-91F0-42BC-B6E2-C647C6A2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9E488-9A4C-4B81-AC07-5F7F3AA7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3C23-4FC0-44A6-840B-6EB74CC7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0E31F-A962-46F2-950D-D71FB2F0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CCC826-E318-44ED-8BFA-5905228D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BEE645-05A5-439E-90D7-DB5CA4B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E448A-A515-464F-BF02-F05F541F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FF188-B2C2-42EE-A3D8-30E28DD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85747-3479-4657-B338-A333532A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DB019-606F-498F-AE34-8000CEB1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764C2E-8BA7-4C08-8E63-ECBDDA2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3E468-88F6-4603-91B8-9DB0B8B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495BF-F877-4730-BF07-CA5AF65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1245-0760-4339-AB80-3784507D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1050A-7A3C-4DDF-9440-366EBFAB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B339A-704D-468F-B83F-59CE3E1B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A920F-30FE-40DD-B7E0-6625871C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EC9F63-76FB-44A3-BA68-5BF82965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292EF8-789F-4542-AF17-A858EC5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62DB3-DA13-4E0A-8331-5FDE0550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A4F90-D638-4E06-B185-E1E0D6F4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7FCABC-3F29-41A3-9DCF-B94C582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EF874C-2776-47D9-810A-2E68F959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E7F9E5-E42A-4DDD-80BF-5DA60A1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0372-C87F-40F2-83F0-AECEF36B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530C0-26DC-4970-B179-9164C67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FC5F11-687F-49E4-84C1-D6F0EB3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ABB610-96F7-4141-ABDB-49F2188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BC197-4216-4D88-AC78-519850EB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9F3BD9-0009-45B7-8C5B-EFACBC96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1B28FE-46F0-41DC-9FB1-FDFD31C9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BF940D-7189-4000-AF32-EB31900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4D8DE7-1F74-4FC9-9312-23EDB8CD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347C5F-97FD-49F1-AA25-4F8A851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F6AA6-5DFE-436E-8B7F-E2A74EEE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0765-2947-4C85-AC5C-BA338304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280F86-A95E-4F90-A5B6-98CF18D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8DE8B1-433D-43E7-BBA4-6D6CD62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1E550-CB08-4DE7-82E1-336F7E2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090D03-9749-4C19-9261-E7FCD61B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2A1D9-FEDA-431D-B67F-7D419B73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E49A74-E2C0-44D6-BE02-F9FC2C53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8AC1B-6BF3-43D8-9C65-A5184226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6CD5-FDB7-45A3-A352-07A86E2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94C9-4B6E-4333-95C5-6525C0DF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DE8-4C37-4DCE-BBB7-77B77C79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64D1-088D-43EC-83EA-31FB9081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C1C1-70D8-4841-BD11-5E203E2A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C3F7-0D0E-4FBB-9CDA-A9C7AFBA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B1F0-8C31-4670-878C-B787D02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CF89F-60BD-45DE-B3C1-899EA36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EEFB-38EE-4030-90AD-BB63CFE7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3E03-104D-4D84-84D1-3B8988A5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F015-822F-4DEF-9AFC-0B759EE4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A3AB-BC84-4523-86A8-A3ED0A2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209AC-C340-4352-AFF6-DB7969F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1A4-3C34-4394-A6DD-BFCD85CA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2FB0-D7A7-4D83-97CD-43596C2D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F04F-C39F-4348-9EA6-A38AC8D8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EE43-D345-4833-A0F3-7753454F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E472-BC6E-4CC0-A19E-CAFA89D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E257-95A0-4AFB-8215-455B809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F6F2E-BF85-4B2B-B78C-93CB15F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2173-5715-47C3-B4C8-8B919C03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9564-D672-470B-8F5A-0C9FAB9D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5662-0AD6-45A7-A4E8-B0772CB0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3CA71-E796-44C2-BD5B-9DA9EF4A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4DF-95AD-48AC-8344-225C7445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46D1-99F3-460D-BF4F-91565ADA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799C-5723-4C1E-9E13-3B57C46E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FE29-325A-420F-823B-3AEFF027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D756A-7366-4E6A-A358-5869AC03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102CA-8FBD-4856-B219-0A1913F9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06B0-0D6B-43D3-BC77-47536F6D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8DEB1-ED6F-4B8B-A780-B6A2905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562E9-B198-419F-9E3E-A1FE02B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06A6-A4CE-4FAC-B41E-D2B49070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E9DD-E604-4D44-A603-0626F499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457-7A84-4D66-A3E6-5F0E717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2471D-BBD4-4C7E-8E2C-94898CE0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229C-E5BD-4029-9449-CA64745A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B3C6-230E-499B-A995-147EE11D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3E99-3436-416C-8F07-A2434E51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BFDB-163F-45C0-B31F-8DCCCDEE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BD78-A34D-4EB1-9809-CC2E080E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BE41-1B71-4490-811F-B0D3968E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E8A7-E966-4132-87DF-9C6E35F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21C0-523B-4E5C-A74D-ABFD66E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7939-CA0D-43E8-B88A-EC24108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35B-9ED8-4936-8715-338FC10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9FEA-A9AA-43FB-ADAE-6DB6DAF9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A2E57-394B-4130-8BD2-1CBA17CE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11CB1-BBE3-404A-9F75-0CFB1498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68DA-4444-4D3A-B996-AB84B5CA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B85F2-37AD-4859-9756-2583DB67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C3150-BB1A-4410-8B2A-51732AA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F6CB-A9B4-487B-82FD-EC402E7E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738E-B5EC-458F-8C7C-E76DCFBD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FAF38-9089-4192-8CA1-C89A6420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DD88-4825-4C11-BAB6-F6AD10B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10C-49DB-462D-A736-40B116E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26E36-6E86-4AAB-961A-6430678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B2B4-A198-4F45-8A37-F1A10C7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9DBB-4A17-48CF-B2E9-D2C2D28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FDA3-E032-480B-B2AB-465953B8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D94FB-2437-42F5-B322-F8A24D53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A2E4-3644-4E4C-B5E4-82C08B14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9851D-A78D-4D35-AE0B-FAA809B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D6337-10D4-441F-B3D1-3FA6C5D7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94229-64B1-40E5-AB36-C5775938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C1279-8AC3-4165-926B-B952072D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E5C-568F-41AE-BDA0-61C4343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146A7-5644-4F84-9E9B-372A6E54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7CBEF-4C90-4417-900C-70019A76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28A7D-83E2-48E0-B147-9DA61D6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AD0CC-7DB3-430A-9F89-4C53D765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1FC4D-9F7A-4140-9D28-7FBC11B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3330-355D-46AE-B939-F6E297AC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42B3F-C211-4991-80A4-FAF6FDFC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739EA-8443-477B-85DB-35F6FD69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3D648-30EB-4863-B41C-4CA0CF7B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6D5A3-0097-4CBC-9624-61DB59FC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C96E-712F-4DB2-8F86-39B17D74B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838-869A-4479-89F5-24A3101EEF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AC57-7FD1-4A35-8673-7D16DD31D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6E88-CC95-413F-A642-E9AEBC6D8E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3D67-E383-44D2-B341-5519CEA0F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274-6DBB-436A-983B-8F709C213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6F1D-B67E-4709-9C5B-1C4DEFD3E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F5D-3577-4B47-99CB-010767C3B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93A7-A4B3-486E-88E5-5F39A3914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D6FA-6DE2-4370-9415-8B46E641E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E728-19F5-4CC7-91E6-2B2DE43C57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5B2B-80EF-45A8-A2BA-1FC8460041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4E06-0446-459C-960D-3AB001EA7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E6A-3836-4EBB-89C0-06815DA17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40F7-B288-49F8-90ED-9E4A4F95E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3A8A-F56F-4D61-B7F0-A726346EA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8680-9FB0-4FF0-9E9E-92BAEEC8B5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684-130E-48F7-B02F-DBC41AE13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2183-2527-4912-926E-D35DFDC3E0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42B8-4B46-48F0-AF5B-7D678DDE40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CD7D-6711-421A-B6C3-E2B6E2211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6AB-7650-474F-9276-B901278930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12D3-9FE6-4A32-8799-842267342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823-1537-438C-9BDD-3295F4FF01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F511-4C0D-4532-AB40-2FCDB2760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65F-EEB3-447D-A2FF-EE31E429CF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857-5761-4FCD-AAC3-321D02674E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AE7-9090-46D9-A71B-51AE4FBEBB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5DFE-AA24-4DAC-A513-58007B6F52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9072-DE52-4DF0-A890-249D26750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A06C-BC27-4B99-9454-38BDB3F0D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41FB-4329-4428-BB81-1074A4946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756E-3603-4C9E-A30F-FF2203A096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0AF1-A52B-488C-9BDD-AC15B402CD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E3CC-39CF-4AD7-87A2-8CBC595B57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3D1C-34D4-46CA-AB6A-8F28FE3C58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3229-BCD7-4121-B8A0-27E196B5B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EB78-BEED-4A37-A4DD-C70CCB491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2788-2778-4470-9D44-3BFAD178AF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1346-B0C3-47B9-8763-2DA8EF0BD0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47A2-E02E-4307-8AB3-4C7E92026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5120-2938-4F34-A4F1-A6909BB235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62000" y="2978280"/>
            <a:ext cx="8820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52560" y="966960"/>
            <a:ext cx="9038880" cy="4924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6070680" y="41338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1706400" y="50706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7034040" y="5041800"/>
            <a:ext cx="6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298440" y="968400"/>
            <a:ext cx="8547120" cy="186696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098720" y="3570120"/>
            <a:ext cx="7124400" cy="2219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059280" y="142704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059280" y="191628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508720" y="148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6084720" y="191628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8244000" y="14698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8186760" y="19749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270036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2843280" y="47973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673272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5622840" y="4797360"/>
            <a:ext cx="11098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619200" y="1319040"/>
            <a:ext cx="7905600" cy="4219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03280" y="43070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722920" y="43070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867280" y="5013360"/>
            <a:ext cx="302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42960" y="1004760"/>
            <a:ext cx="7858080" cy="4848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932360" y="184464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003640" y="256536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971640" y="4608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1042920" y="530064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8"/>
          <a:stretch/>
        </p:blipFill>
        <p:spPr>
          <a:xfrm>
            <a:off x="5148360" y="465300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9"/>
          <a:stretch/>
        </p:blipFill>
        <p:spPr>
          <a:xfrm>
            <a:off x="5219640" y="537372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552600" y="785880"/>
            <a:ext cx="8038800" cy="58863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619280" y="541656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619280" y="6165720"/>
            <a:ext cx="42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42920" y="1262160"/>
            <a:ext cx="7058160" cy="4333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547640" y="4206960"/>
            <a:ext cx="36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692360" y="4941720"/>
            <a:ext cx="36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23920" y="1290600"/>
            <a:ext cx="8696160" cy="4276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324792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6012000" y="32702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4110120" y="48974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7553160" y="4869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619200" y="1824120"/>
            <a:ext cx="7905600" cy="3209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3708360" y="43228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7278840" y="4292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95120" y="1152360"/>
            <a:ext cx="8753760" cy="4553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332000" y="351468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403280" y="416412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200240" y="1919160"/>
            <a:ext cx="6743520" cy="3019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835280" y="29811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908000" y="3645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2050920" y="433548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3:0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